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85764"/>
        <c:axId val="63144805"/>
      </c:barChart>
      <c:catAx>
        <c:axId val="78085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44805"/>
        <c:crosses val="autoZero"/>
        <c:auto val="1"/>
        <c:lblAlgn val="ctr"/>
        <c:lblOffset val="100"/>
        <c:noMultiLvlLbl val="0"/>
      </c:catAx>
      <c:valAx>
        <c:axId val="63144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85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876-1A09-4075-BD92-2DCF436A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E1F-A8C3-44E4-B8B1-C129BC1E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2F1-29B0-46B2-99DD-4AC9ED30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DAD-314B-4B05-9BA2-E0ACDE82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783-C774-4DC8-9032-5706583E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E5B-E9B1-4AD1-A1CC-DDAC00C7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793-3B4E-4C04-960A-D552973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DB5-436D-4FB9-B5A2-6E93A92D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CE5-371F-415F-A33A-9967790A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4EB-A6F7-4CC4-A4E4-7E1B3F0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15E-5468-44C6-ACF0-2AF44922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7EA-A59B-4BBE-B6F2-8CD0651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0180-2804-4757-9BDA-E24EFA97B8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