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12014"/>
        <c:axId val="78172209"/>
      </c:barChart>
      <c:catAx>
        <c:axId val="68412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72209"/>
        <c:crosses val="autoZero"/>
        <c:auto val="1"/>
        <c:lblAlgn val="ctr"/>
        <c:lblOffset val="100"/>
        <c:noMultiLvlLbl val="0"/>
      </c:catAx>
      <c:valAx>
        <c:axId val="78172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12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8A4-3FB8-4802-B8EE-1271FE04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2BE-7700-419E-8853-E821BF1A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703-EF7A-4475-BDAF-FC04B721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64B-DDBA-4E9B-8668-D3A75DB8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0AF-51FE-497D-AE23-FA0CC683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D91-E7DF-4EA6-ABFC-7536BF58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A67-ECDF-45F5-86F2-2B72818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A63-ECF6-480B-8AF1-2BD5A03A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DBA-8539-4469-A960-0B58BE37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19F-560F-4A02-9982-36D365D8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875-5A00-4733-A278-5954C07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D96-1345-437F-8782-C0064716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FB827-C22A-43EF-82DC-345AC4F2A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