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55704"/>
        <c:axId val="36566545"/>
      </c:barChart>
      <c:catAx>
        <c:axId val="24855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66545"/>
        <c:crosses val="autoZero"/>
        <c:auto val="1"/>
        <c:lblAlgn val="ctr"/>
        <c:lblOffset val="100"/>
        <c:noMultiLvlLbl val="0"/>
      </c:catAx>
      <c:valAx>
        <c:axId val="36566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55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4B1-DC61-4A1A-BFE7-7219563A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A78-8B4F-4A76-A0C5-8A6C28D1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C58-E262-4714-84A9-479469F2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783-9F15-4A56-B5BE-1504CF96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A5B-8909-41B3-A3F1-1D1EADE6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C83-4F38-48FF-AFA8-6E85EC10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39D-EA0C-4FF6-8365-149AB046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C19-EEFF-439D-B67B-A0B33AA2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511-45C1-4758-AD7F-2DF154F5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374-CBB3-4038-B22F-F7D3B923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826F-1B14-4AC0-ABF4-33E95823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78D-2CF1-43E6-91D5-453A95EE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04DCF-7E65-4EB4-BE8F-05645CF6B1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