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33096"/>
        <c:axId val="66456045"/>
      </c:barChart>
      <c:catAx>
        <c:axId val="99433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56045"/>
        <c:crosses val="autoZero"/>
        <c:auto val="1"/>
        <c:lblAlgn val="ctr"/>
        <c:lblOffset val="100"/>
        <c:noMultiLvlLbl val="0"/>
      </c:catAx>
      <c:valAx>
        <c:axId val="66456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33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95C-CD61-4BB9-8DF9-717D3E05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6F1-A988-4837-A215-37303771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A44-DD76-42FF-B8B1-ED9B51B0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B75-F306-47E8-89AF-14E8CAF1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590-B2E0-4F5A-8FFF-B76E0469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26B-01BF-4323-B55A-1B80352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8BE-C06F-4B33-9AE6-917A944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F734-01F1-4F16-9265-6DC93AFF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837-F03D-4B87-8653-38812F46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CEC-3892-4EDF-8676-12478A6C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E4E-402B-454F-8AD7-2B7A140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994-0B87-4405-8E04-DF40B96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A7127-A0D9-4ADF-8857-F49A3BBB8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