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84454"/>
        <c:axId val="17487897"/>
      </c:barChart>
      <c:catAx>
        <c:axId val="55844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487897"/>
        <c:crosses val="autoZero"/>
        <c:auto val="1"/>
        <c:lblAlgn val="ctr"/>
        <c:lblOffset val="100"/>
        <c:noMultiLvlLbl val="0"/>
      </c:catAx>
      <c:valAx>
        <c:axId val="174878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844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E68C-A9C6-48C3-83EE-F48AB87CD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970F-153F-4461-B0BE-9B48BFFD5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57B9-A4D2-4F12-A7A9-D6A0B3035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6AE3-FF39-46E8-9EAA-93CED975E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A2DE-0E61-456D-A503-3DDEDFBD2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DEAF-A993-4ACB-9464-82AED2063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DA27-6ADE-4860-9BCD-13705BFEF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B1D2-0F87-44A8-AC8C-59B24BEBF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C6A1-0039-4D52-94DD-3910FB844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C770-67F4-4818-B4A6-D705C5D5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1E73-FA6E-494B-A44A-06B4EA6C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ACE0-AAAB-4D48-AC61-2EB847BF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2A8A8F-F70B-4884-8179-D96E1448B6E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