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78920"/>
        <c:axId val="82625852"/>
      </c:barChart>
      <c:catAx>
        <c:axId val="49878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25852"/>
        <c:crosses val="autoZero"/>
        <c:auto val="1"/>
        <c:lblAlgn val="ctr"/>
        <c:lblOffset val="100"/>
        <c:noMultiLvlLbl val="0"/>
      </c:catAx>
      <c:valAx>
        <c:axId val="82625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78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933-814F-409F-A02E-F2DE235A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6CF-3D82-48CF-805B-DC3DB4E6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EFE-8334-4242-B37C-06BB8A01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925-A8F8-4BC1-91DC-AED10131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273-4A21-4C12-9D04-61D91662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96F-2EBF-431A-A279-F567DB7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57A-D9AD-46A5-A22F-F3FEA861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5AF-37D1-4353-89B0-4EF2BF68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F3D-8522-4ADF-8E7E-A702D54E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6C6-B1B3-4E28-82B7-5900FD2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99B-D6B7-4E12-964B-785F7750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B34-BEC4-46B4-A611-8FAB1048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BB60E-35C9-4529-A774-C7633EFB03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