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91975"/>
        <c:axId val="41622021"/>
      </c:barChart>
      <c:catAx>
        <c:axId val="3689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22021"/>
        <c:crosses val="autoZero"/>
        <c:auto val="1"/>
        <c:lblAlgn val="ctr"/>
        <c:lblOffset val="100"/>
        <c:noMultiLvlLbl val="0"/>
      </c:catAx>
      <c:valAx>
        <c:axId val="41622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881-8662-4395-A8E8-737BBCC1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E9E-575A-44D0-8A0C-D788F7D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33E-F441-4633-8341-F656E8D9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8B6-6C99-46FC-B9CB-00ACB202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C3B-F408-42A8-B1A4-5D5E24CE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FE5-6E57-4248-B368-E040D909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668-1D71-4DB5-A004-9D7BEDBA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090-D13A-470A-9CEF-D59A41B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688-B87E-46CC-818B-B99B822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1BA-216C-4B05-81F9-EF68F9D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544-D047-48AB-8BF5-6EFB4DA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415-315B-496F-B3E5-E6114EC8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50D1-EA94-4A7F-93C8-8696A6BBB6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