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50667"/>
        <c:axId val="84893125"/>
      </c:barChart>
      <c:catAx>
        <c:axId val="46450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93125"/>
        <c:crosses val="autoZero"/>
        <c:auto val="1"/>
        <c:lblAlgn val="ctr"/>
        <c:lblOffset val="100"/>
        <c:noMultiLvlLbl val="0"/>
      </c:catAx>
      <c:valAx>
        <c:axId val="84893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50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DB2-6B8F-4B28-B51E-9F668250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D742-DE8F-4C14-B04D-067A396B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E29-8A01-433B-B069-3EE5286E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A15-3CDC-4A9D-95E7-C2AFCE80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6E2-8542-4E12-B172-0135B073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451-5DD3-44D4-A117-296EA171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D667-A06B-4CAF-84CB-3C231887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0A9-2E76-4954-8413-EAA9C64B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F4E-5064-4A14-9F6B-8754FF97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5EB-C26A-464B-906C-B8E1EFC0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090-C5DD-4461-9961-BF4B951A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BE2C-FD1B-4F5C-9432-25550320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F61A0-444A-42BA-B76B-58F4FC2116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