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32087"/>
        <c:axId val="9068894"/>
      </c:barChart>
      <c:catAx>
        <c:axId val="94432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8894"/>
        <c:crosses val="autoZero"/>
        <c:auto val="1"/>
        <c:lblAlgn val="ctr"/>
        <c:lblOffset val="100"/>
        <c:noMultiLvlLbl val="0"/>
      </c:catAx>
      <c:valAx>
        <c:axId val="9068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32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63C-B569-4899-B64C-3F619F8D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DD0-A0F0-460B-B5A1-A2EC79F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B65-397E-436C-8DF8-8F9A7ED5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86B-744C-4659-B7B7-D9399C70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07C-082F-491E-8953-32D9BEE3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8FC-7851-4CCC-AE46-ABF598E0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B4B-8FE1-4CB8-AD59-DC22F7B2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8E5-A931-4F71-8EC9-FBEEEE00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71E-E1F3-4118-9A1C-5134C257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427-C0EF-41B9-B933-833E59CC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039-808A-42F6-B7C4-B812A95C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24D-9582-43EC-A325-ED53E38E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C6A45-88D2-4E3C-996E-FFD526AD70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