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4105"/>
        <c:axId val="94618395"/>
      </c:barChart>
      <c:catAx>
        <c:axId val="2544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18395"/>
        <c:crosses val="autoZero"/>
        <c:auto val="1"/>
        <c:lblAlgn val="ctr"/>
        <c:lblOffset val="100"/>
        <c:noMultiLvlLbl val="0"/>
      </c:catAx>
      <c:valAx>
        <c:axId val="94618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0F2-DCEE-471C-AA3C-BA0A199E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881-F89D-4625-9AB9-17B144A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242-D186-4495-89B3-B7C99533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2E59-93CE-48D4-9742-953CD8C0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37A-D316-4F59-887D-863E9550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EF6-BA07-444A-AF6C-C2258811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5E9-1D79-45A9-9A3D-2587781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BCC-A58A-4E31-83F9-B34E4FC1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B14-BBDF-428E-A1A6-0E6374AE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66A-3443-498C-8406-164C91F6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2EE-D01A-4690-A020-48A5FE7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0FF-8C4E-4CF6-BEA5-5036024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DE2B9-EA5E-47A3-8F41-CA56FF9A5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