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55765"/>
        <c:axId val="69659950"/>
      </c:barChart>
      <c:catAx>
        <c:axId val="81655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9950"/>
        <c:crosses val="autoZero"/>
        <c:auto val="1"/>
        <c:lblAlgn val="ctr"/>
        <c:lblOffset val="100"/>
        <c:noMultiLvlLbl val="0"/>
      </c:catAx>
      <c:valAx>
        <c:axId val="69659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5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504-B5A0-4EB4-8EE8-F5017CF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AEE-CA1A-4099-AD84-3700702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901-0520-4FA5-B214-0700A228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AD4-0248-4DE1-9E42-74F52F64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284-3136-4253-A421-18CE0EC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F30-4D59-4AF9-8E90-4361919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CCC-8F89-4A73-888C-2327645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4A6-F9E7-494D-AE25-EA55609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35E-0FFA-4EE4-A3A1-274EE9B3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769-0BBE-4FC1-83CE-A558169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89-FDC1-4318-80B3-9DFBFF8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927-229F-4259-BA61-B2AAA08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06CA-799B-417E-9541-38FBADEBB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