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47719"/>
        <c:axId val="86714784"/>
      </c:barChart>
      <c:catAx>
        <c:axId val="11247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14784"/>
        <c:crosses val="autoZero"/>
        <c:auto val="1"/>
        <c:lblAlgn val="ctr"/>
        <c:lblOffset val="100"/>
        <c:noMultiLvlLbl val="0"/>
      </c:catAx>
      <c:valAx>
        <c:axId val="86714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47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D32-7962-462B-8E50-74E99EF3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215-3AB5-4C8A-976F-E4A79256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B44-CED3-4F42-BF8F-CF60857B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A7E-0D06-48FE-B73E-A5D8CBE1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D09-EC84-401C-9CDD-F65161E3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80B-B472-4406-8DAC-B3D99233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127-CB31-49C6-BDFF-0967FAC6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D3B-D88A-48D8-A802-C4D1D684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22A-0D99-4A32-8B13-3490D8EE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E69-4F2C-4661-8B4D-E85F1DD5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CBD-0797-4EB4-A0E6-8BB1AADD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025-D318-4C16-A7C9-4ABF3A4B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A2FE4-C643-477F-B73C-EE5C4156F3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