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63221"/>
        <c:axId val="94720763"/>
      </c:barChart>
      <c:catAx>
        <c:axId val="83463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0763"/>
        <c:crosses val="autoZero"/>
        <c:auto val="1"/>
        <c:lblAlgn val="ctr"/>
        <c:lblOffset val="100"/>
        <c:noMultiLvlLbl val="0"/>
      </c:catAx>
      <c:valAx>
        <c:axId val="94720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63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BAA-2B23-4C0D-8010-4E6AE6A1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D2E-5E92-4982-BED5-056780F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B66-546B-4614-BC60-D537DB65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1C2-73A0-4D5B-BA90-A4A9DC59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C64-E2E6-4B49-96F9-D79EB511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54C-94E5-4A65-BBD8-040DB0A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03E-1DC5-4FB4-AD4E-2A1AB72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AAC-29DF-4ACD-AA2F-CFC6799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951-7219-4651-9C27-9951373F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1D2-C4EC-40E4-BCC5-21B1B20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EBE-5EEA-4C7A-8882-3D3E564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5DB-64BB-4AA1-B03B-5E43F47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A667-8209-48B2-BF9F-2D7BCEDA7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