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41425"/>
        <c:axId val="18980762"/>
      </c:barChart>
      <c:catAx>
        <c:axId val="32941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80762"/>
        <c:crosses val="autoZero"/>
        <c:auto val="1"/>
        <c:lblAlgn val="ctr"/>
        <c:lblOffset val="100"/>
        <c:noMultiLvlLbl val="0"/>
      </c:catAx>
      <c:valAx>
        <c:axId val="18980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41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A68-DA72-436C-94E7-1EB61BA9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CC1-24C5-4319-979F-99F0F6FB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212-BBF7-457E-ACBD-189BF0FA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FD0-02E3-42A5-85E7-863C6EEE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580-2F94-4F80-AE0D-25D9B55D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B88-BBDB-4BA0-A8DC-67E62CAD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C5D-CA91-4846-8128-A8893205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612-8BC3-4893-B75F-37DDD61C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E2F-890D-46CA-B490-A0C74546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B66-8063-49E9-8843-1D22296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477-797E-4408-9874-25944AAB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A2D-0D52-4C8F-98C9-E859D10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DEEA3-EA13-41E5-A960-BAA18471CF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