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3679"/>
        <c:axId val="44349806"/>
      </c:barChart>
      <c:catAx>
        <c:axId val="29663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9806"/>
        <c:crosses val="autoZero"/>
        <c:auto val="1"/>
        <c:lblAlgn val="ctr"/>
        <c:lblOffset val="100"/>
        <c:noMultiLvlLbl val="0"/>
      </c:catAx>
      <c:valAx>
        <c:axId val="44349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3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598-8CA3-4632-831E-17C149CA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04B-5762-4D71-8F85-33203ABE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02A-BEE4-49E7-A700-73DBB034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B90-EAFF-42E6-91DD-23F65CDE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241-A389-48B8-94EC-8DE0728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C86-A845-4BD8-BC73-9218DE5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BA9-B380-420C-85D8-D976E21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EDC-2553-4A80-B7FB-A041C7F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DCC-968D-4DBA-B510-56CEEE18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67E-81DC-48E7-89A4-831C53D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061-18C6-4606-A244-81CCCADA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38A-AF6B-4918-BA01-D09A4BD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ED726-8F01-4E1B-88CA-579C83EBAA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